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8D4-3121-4904-B312-47000401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E9A-14A7-49A0-8197-D33D94CE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54F-F51A-4CB7-8030-9DFF345B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E76-0C54-44E2-85AF-D3BABF2D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09BC-C30F-44C8-808C-D9A9404A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013D-CE1F-40C0-B9A0-3107A685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869F-579F-4BEF-A942-BB9107D4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192F-96A7-48B5-AD6C-3AB8BE5C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417B-A19E-40B0-9C66-7715833D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EA5F-8430-47B1-8706-744C3888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9843-0E59-4345-A27C-0BA2D45B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968-7EA9-4F5C-AD12-B3AC28D7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2E82-3DBA-46B3-86A1-4F52FC4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13E4-9DFF-4F5A-A2ED-5F42A52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801F-183E-48DE-89AF-23867C7D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C0ED-AC00-4240-B9E9-73AEA3EC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0BDF-34BA-4961-BC03-26FE4BC4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AD7-2607-44D7-98E2-CC2F63ED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4D1-51E4-4C45-9A74-72A9723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073-D040-4D4B-8207-8B072A81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449-CD95-4721-9CB1-D80B9C35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3A3-9BF6-43DE-804C-3595B401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F1D-CE38-4CBE-AAD6-51B694B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B9B-4436-4373-9DC1-ECBC9BE5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A36B-FF2A-4C2E-B565-1CD7B1513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C59F-44D1-44D1-BE86-9A8F3A8F0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89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22°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autorização será conferida nas seguintes condições, além das demais constantes deste Códig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o título poderá ser objeto de cessão ou transferência, desde que o cessionário satisfaça os requisitos legais exigidos. Os atos de cessão e transferência só terão validade depois de devidamente averbados no D.N.P.M.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 - é admitida a renúncia à autorização, sem prejuízo do cumprimento, pelo titular, das obrigações decorrentes deste Código, observado o disposto no inciso V deste artigo, parte final, tornando-se operante o efeito da extinção do título autorizativo na data da protocolização do instrumento de renúncia, com a desoneração da área, na forma do art. 26 deste Códig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II - o prazo de validade da autorização não será inferior a um ano, nem superior a três anos, a critério do D.N.P.M., consideradas as características especiais da situação da área e da pesquisa mineral objetivada, admitida a sua prorrogação, sob as seguintes condiçõe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a prorrogação poderá ser concedida, tendo por base a avaliação do desenvolvimento dos trabalhos, conforme critérios estabelecidos em portaria do Diretor-Geral do D.N.P.M.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a prorrogação deverá ser requerida até sessenta dias antes de expirar-se o prazo da autorização vigente, devendo o competente requerimento ser instruído com um relatório dos trabalhos efetuados e justificativa do prosseguimento da pesquis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 a prorrogação independe da expedição de novo alvará, contando-se o respectivo prazo a partir da data da publicação, no Diário Oficial da União, do despacho que a deferi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V - o titular da autorização responde, com exclusividade, pelos danos causados a terceiros, direta ou indiretamente decorrentes dos trabalhos de pesquis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 - o titular da autorização fica obrigado a realizar os respectivos trabalhos de pesquisa, devendo submeter à aprovação do D.N.P.M., dentro do prazo de vigência do alvará, ou de sua renovação, relatório circunstanciado dos trabalhos, contendo os estudos geológicos e tecnológicos quantificativos da jazida e demonstrativos da exeqüibilidade técnico-econômica da lavra, elaborado sob a responsabilidade técnica de profissional legalmente habilitado. Excepcionalmente, poderá ser dispensada a apresentação do relatório, na hipótese de renúncia à autorização de que trata o inciso II deste artigo, conforme critérios fixados em portaria do Diretor-Geral do D.N.P.M., caso em que não se aplicará o disposto no § 1º deste artig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§ 1º. A não apresentação do relatório referido no inciso V deste artigo sujeita o titular à sanção de multa, calculada à razão de uma UFIR por hectare da área outorgada para pesquis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§ 2º. É admitida, em caráter excepcional, a extração de substâncias minerais em área titulada, antes da outorga da concessão de lavra, mediante prévia autorização do D.N.P.M., observada a legislação ambiental pertinente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4:54Z</dcterms:modified>
  <cp:revision>59</cp:revision>
  <dc:subject/>
  <dc:title>Apresentação do PowerPoint</dc:title>
</cp:coreProperties>
</file>